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DF8A-2D70-4F94-9ED9-370DE380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XyxyX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GF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9D1-9D61-4475-8CAF-88106ECA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B18-BF53-45EB-9DBE-40BC7978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6CA-275A-4B22-9CC2-AC7C425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443-5FEE-4955-9593-AADCB5A5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9D0-0799-44DC-99C3-4718150E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4D6E-963C-434A-8303-15B6B36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699F-4228-4608-AC00-E6156ABD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F729-998E-4FEF-9C3C-20D4215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EAD9-0656-48FE-B4C5-A96C96C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C453-1540-4074-8813-ADE2A96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7A7-6529-41ED-A883-210A61B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29B-5A50-43A5-BEF5-EDE51B9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1696-C9D0-4AEB-BF8C-E7F6A8C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FFE-4DF6-451A-807B-DFA367A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CAB6-CB8E-45A5-A205-CE24BE5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F7C0-24B8-4A8F-AC06-D69922E7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3CB-4EFE-4BCC-B68E-3A2A3FC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4C2-7DE1-4812-8281-D5FE7196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6EE-3BE3-47F0-9CF0-1D75FBA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23D-A0C5-440F-8DC8-30C912B3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A2F-EAEB-4E98-A441-C607D4A3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1D7-8759-461E-8267-981796B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E49-65A1-4527-808B-4673EB09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B9D-041B-46A2-BFB6-C692094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682-071C-4B3F-BE33-1D0D76BC1A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CF5B-82EA-489E-869F-A29476376E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800360" y="2016000"/>
            <a:ext cx="5471280" cy="2736000"/>
            <a:chOff x="1800360" y="2016000"/>
            <a:chExt cx="5471280" cy="2736000"/>
          </a:xfrm>
        </p:grpSpPr>
        <p:cxnSp>
          <p:nvCxnSpPr>
            <p:cNvPr id="158" name="_s2069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219640" y="2426400"/>
              <a:ext cx="547560" cy="191556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2068"/>
            <p:cNvCxnSpPr>
              <a:stCxn id="162" idx="0"/>
              <a:endCxn id="160" idx="2"/>
            </p:cNvCxnSpPr>
            <p:nvPr/>
          </p:nvCxnSpPr>
          <p:spPr>
            <a:xfrm rot="16200000">
              <a:off x="4262040" y="3384000"/>
              <a:ext cx="5475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2067"/>
            <p:cNvCxnSpPr>
              <a:stCxn id="164" idx="0"/>
              <a:endCxn id="160" idx="2"/>
            </p:cNvCxnSpPr>
            <p:nvPr/>
          </p:nvCxnSpPr>
          <p:spPr>
            <a:xfrm flipH="1" flipV="1" rot="5400000">
              <a:off x="3304440" y="2426760"/>
              <a:ext cx="547560" cy="191520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2063"/>
            <p:cNvSpPr/>
            <p:nvPr/>
          </p:nvSpPr>
          <p:spPr>
            <a:xfrm>
              <a:off x="3715200" y="20160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Opera epic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2064"/>
            <p:cNvSpPr/>
            <p:nvPr/>
          </p:nvSpPr>
          <p:spPr>
            <a:xfrm>
              <a:off x="180036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2065"/>
            <p:cNvSpPr/>
            <p:nvPr/>
          </p:nvSpPr>
          <p:spPr>
            <a:xfrm>
              <a:off x="371520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Na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2066"/>
            <p:cNvSpPr/>
            <p:nvPr/>
          </p:nvSpPr>
          <p:spPr>
            <a:xfrm>
              <a:off x="5630400" y="365760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400" spc="-1" strike="noStrike">
                  <a:solidFill>
                    <a:srgbClr val="000000"/>
                  </a:solidFill>
                  <a:latin typeface="Arial"/>
                </a:rPr>
                <a:t>Persona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639880" y="1290600"/>
            <a:ext cx="3794400" cy="3352680"/>
            <a:chOff x="2639880" y="1290600"/>
            <a:chExt cx="3794400" cy="3352680"/>
          </a:xfrm>
        </p:grpSpPr>
        <p:sp>
          <p:nvSpPr>
            <p:cNvPr id="166" name="_s15379"/>
            <p:cNvSpPr/>
            <p:nvPr/>
          </p:nvSpPr>
          <p:spPr>
            <a:xfrm>
              <a:off x="3686040" y="1886040"/>
              <a:ext cx="1702080" cy="1701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380"/>
            <p:cNvSpPr/>
            <p:nvPr/>
          </p:nvSpPr>
          <p:spPr>
            <a:xfrm>
              <a:off x="4311720" y="1290600"/>
              <a:ext cx="4525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73"/>
            <p:cNvSpPr/>
            <p:nvPr/>
          </p:nvSpPr>
          <p:spPr>
            <a:xfrm>
              <a:off x="4246560" y="2857680"/>
              <a:ext cx="1701720" cy="170172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369"/>
            <p:cNvSpPr/>
            <p:nvPr/>
          </p:nvSpPr>
          <p:spPr>
            <a:xfrm>
              <a:off x="5981760" y="4218120"/>
              <a:ext cx="4525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374"/>
            <p:cNvSpPr/>
            <p:nvPr/>
          </p:nvSpPr>
          <p:spPr>
            <a:xfrm>
              <a:off x="3124080" y="2855880"/>
              <a:ext cx="1702080" cy="170172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371"/>
            <p:cNvSpPr/>
            <p:nvPr/>
          </p:nvSpPr>
          <p:spPr>
            <a:xfrm>
              <a:off x="2639880" y="4218120"/>
              <a:ext cx="4525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21964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31:58Z</dcterms:created>
  <dc:creator>lau</dc:creator>
  <dc:description/>
  <dc:language>en-US</dc:language>
  <cp:lastModifiedBy>lau</cp:lastModifiedBy>
  <dcterms:modified xsi:type="dcterms:W3CDTF">2008-01-16T20:03:29Z</dcterms:modified>
  <cp:revision>3</cp:revision>
  <dc:subject/>
  <dc:title>Slide 1</dc:title>
</cp:coreProperties>
</file>